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62EE-6894-49A5-AE66-539CA64FF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E714-D950-49DB-8A93-D48728E64F8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C2EF-126A-4105-B8C7-053B746F8FE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097B-ACDE-4AD0-859D-180C74F35E8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F8ED-BBF1-409D-8A10-59CB89ECE5A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BE54-E44B-41BF-BB55-07031ADFE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7693-5AAD-43CF-9DD2-DEDAE46F2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15F5B-467E-4187-91CF-51E0D9CA8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CA5F-E487-49AA-82ED-AD90762E0C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70DA-5DE2-4E0A-95D2-517F83CA4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86769-1ADE-4121-98AC-543B2039B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017C-002F-419A-8E91-F50947257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7BAA-1523-4BF0-8331-8609E650D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54D5-97CE-4FC4-A88F-01DEC8D62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A4A1-5D48-482A-8D91-D3A1B3013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9363-ABC7-4802-B5A2-7D619E978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D064-F691-44E1-B6D8-4E6B3596B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bama.ua.edu/~jhartman" TargetMode="External"/><Relationship Id="rId3" Type="http://schemas.openxmlformats.org/officeDocument/2006/relationships/hyperlink" Target="http://bama.ua.edu/~jhartman/689/tutintro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86F3-3524-42B2-AF32-236D3424F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9">
            <a:hlinkClick r:id="rId2"/>
          </p:cNvPr>
          <p:cNvSpPr/>
          <p:nvPr/>
        </p:nvSpPr>
        <p:spPr>
          <a:xfrm>
            <a:off x="685800" y="6400800"/>
            <a:ext cx="2895480" cy="304920"/>
          </a:xfrm>
          <a:custGeom>
            <a:avLst/>
            <a:gdLst>
              <a:gd name="textAreaLeft" fmla="*/ 19440 w 2895480"/>
              <a:gd name="textAreaRight" fmla="*/ 2876040 w 2895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04894" h="21600">
                <a:moveTo>
                  <a:pt x="0" y="0"/>
                </a:moveTo>
                <a:lnTo>
                  <a:pt x="204894" y="0"/>
                </a:lnTo>
                <a:lnTo>
                  <a:pt x="204894" y="21600"/>
                </a:lnTo>
                <a:lnTo>
                  <a:pt x="0" y="21600"/>
                </a:lnTo>
                <a:close/>
              </a:path>
              <a:path fill="lightenLess" w="204894" h="21600">
                <a:moveTo>
                  <a:pt x="0" y="0"/>
                </a:moveTo>
                <a:lnTo>
                  <a:pt x="204894" y="0"/>
                </a:lnTo>
                <a:lnTo>
                  <a:pt x="203494" y="1400"/>
                </a:lnTo>
                <a:lnTo>
                  <a:pt x="1400" y="1400"/>
                </a:lnTo>
                <a:close/>
              </a:path>
              <a:path fill="darken" w="204894" h="21600">
                <a:moveTo>
                  <a:pt x="204894" y="0"/>
                </a:moveTo>
                <a:lnTo>
                  <a:pt x="204894" y="21600"/>
                </a:lnTo>
                <a:lnTo>
                  <a:pt x="203494" y="20200"/>
                </a:lnTo>
                <a:lnTo>
                  <a:pt x="203494" y="1400"/>
                </a:lnTo>
                <a:close/>
              </a:path>
              <a:path fill="darkenLess" w="204894" h="21600">
                <a:moveTo>
                  <a:pt x="204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94" y="20200"/>
                </a:lnTo>
                <a:close/>
              </a:path>
              <a:path fill="lighten" w="204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AutoShape 10">
            <a:hlinkClick r:id="rId3"/>
          </p:cNvPr>
          <p:cNvSpPr/>
          <p:nvPr/>
        </p:nvSpPr>
        <p:spPr>
          <a:xfrm>
            <a:off x="304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noFill/>
          <a:ln w="6480">
            <a:solidFill>
              <a:srgbClr val="ead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ma.ua.edu/~jhartman/689/compute.ppt" TargetMode="External"/><Relationship Id="rId2" Type="http://schemas.openxmlformats.org/officeDocument/2006/relationships/hyperlink" Target="http://bama.ua.edu/~jhartman/689/syntax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E9D3-D54A-417E-BD81-00556C8BF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915840" y="609480"/>
            <a:ext cx="7313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d7f5"/>
                </a:solidFill>
                <a:latin typeface="Tahoma"/>
              </a:rPr>
              <a:t>An Interactive Tutorial for SPSS 10.0 for Windows</a:t>
            </a:r>
            <a:r>
              <a:rPr b="0" lang="en-US" sz="2400" spc="-1" strike="noStrike" baseline="30000">
                <a:solidFill>
                  <a:srgbClr val="ead7f5"/>
                </a:solidFill>
                <a:latin typeface="Tahoma"/>
              </a:rPr>
              <a:t>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914400" y="2133720"/>
            <a:ext cx="7313760" cy="190476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Analysis of Covariance</a:t>
            </a:r>
            <a:br>
              <a:rPr sz="4400"/>
            </a:b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(Regression Approach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2819520" y="4648320"/>
            <a:ext cx="3504960" cy="91440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ahoma"/>
              </a:rPr>
              <a:t>Julia Hartma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7F0B-C194-4152-ACDC-1849A57B8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2" descr="C:\BCT 689\PowerPoint\spss gifs\mlr\regress3.gif"/>
          <p:cNvPicPr/>
          <p:nvPr/>
        </p:nvPicPr>
        <p:blipFill>
          <a:blip r:embed="rId1"/>
          <a:srcRect l="3638" t="0" r="0" b="1351"/>
          <a:stretch/>
        </p:blipFill>
        <p:spPr>
          <a:xfrm>
            <a:off x="4572000" y="2971800"/>
            <a:ext cx="4119480" cy="2019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66680" y="5257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gr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6212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nea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AutoShape 8">
            <a:hlinkClick r:id="" action="ppaction://hlinkshowjump?jump=nextslide"/>
          </p:cNvPr>
          <p:cNvSpPr/>
          <p:nvPr/>
        </p:nvSpPr>
        <p:spPr>
          <a:xfrm>
            <a:off x="6400800" y="4343400"/>
            <a:ext cx="2057400" cy="304920"/>
          </a:xfrm>
          <a:custGeom>
            <a:avLst/>
            <a:gdLst>
              <a:gd name="textAreaLeft" fmla="*/ 19440 w 2057400"/>
              <a:gd name="textAreaRight" fmla="*/ 2037960 w 2057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5596" h="21600">
                <a:moveTo>
                  <a:pt x="0" y="0"/>
                </a:moveTo>
                <a:lnTo>
                  <a:pt x="145596" y="0"/>
                </a:lnTo>
                <a:lnTo>
                  <a:pt x="145596" y="21600"/>
                </a:lnTo>
                <a:lnTo>
                  <a:pt x="0" y="21600"/>
                </a:lnTo>
                <a:close/>
              </a:path>
              <a:path fill="lightenLess" w="145596" h="21600">
                <a:moveTo>
                  <a:pt x="0" y="0"/>
                </a:moveTo>
                <a:lnTo>
                  <a:pt x="145596" y="0"/>
                </a:lnTo>
                <a:lnTo>
                  <a:pt x="144196" y="1400"/>
                </a:lnTo>
                <a:lnTo>
                  <a:pt x="1400" y="1400"/>
                </a:lnTo>
                <a:close/>
              </a:path>
              <a:path fill="darken" w="145596" h="21600">
                <a:moveTo>
                  <a:pt x="145596" y="0"/>
                </a:moveTo>
                <a:lnTo>
                  <a:pt x="145596" y="21600"/>
                </a:lnTo>
                <a:lnTo>
                  <a:pt x="144196" y="20200"/>
                </a:lnTo>
                <a:lnTo>
                  <a:pt x="144196" y="1400"/>
                </a:lnTo>
                <a:close/>
              </a:path>
              <a:path fill="darkenLess" w="145596" h="21600">
                <a:moveTo>
                  <a:pt x="14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196" y="20200"/>
                </a:lnTo>
                <a:close/>
              </a:path>
              <a:path fill="lighten" w="14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4048-7EE0-49DF-BDD1-02999C12E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2" descr="C:\BCT 689\PowerPoint\spss gifs\mlr\regress4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718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483160" y="21337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ose the variables for analysis from the  list in the variable box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AutoShape 5">
            <a:hlinkClick r:id="" action="ppaction://hlinkshowjump?jump=nextslide"/>
          </p:cNvPr>
          <p:cNvSpPr/>
          <p:nvPr/>
        </p:nvSpPr>
        <p:spPr>
          <a:xfrm>
            <a:off x="2133720" y="3581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483160" y="350820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ATRICULATON DATE - YE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which is already highlighted, to the box labeled</a:t>
            </a:r>
            <a:br>
              <a:rPr sz="2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ndependent(s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8784-C5F1-4F1F-99F9-BD686CFEC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1026" descr="C:\BCT 689\PowerPoint\spss gifs\mlr\matyr2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3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2" name="AutoShape 1028">
            <a:hlinkClick r:id="" action="ppaction://hlinkshowjump?jump=nextslide"/>
          </p:cNvPr>
          <p:cNvSpPr/>
          <p:nvPr/>
        </p:nvSpPr>
        <p:spPr>
          <a:xfrm>
            <a:off x="1752480" y="2590920"/>
            <a:ext cx="228600" cy="24382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38280"/>
              <a:gd name="textAreaBottom" fmla="*/ 2423520 h 2438280"/>
            </a:gdLst>
            <a:ahLst/>
            <a:rect l="textAreaLeft" t="textAreaTop" r="textAreaRight" b="textAreaBottom"/>
            <a:pathLst>
              <a:path w="21600" h="230060">
                <a:moveTo>
                  <a:pt x="0" y="0"/>
                </a:moveTo>
                <a:lnTo>
                  <a:pt x="21600" y="0"/>
                </a:lnTo>
                <a:lnTo>
                  <a:pt x="21600" y="230060"/>
                </a:lnTo>
                <a:lnTo>
                  <a:pt x="0" y="230060"/>
                </a:lnTo>
                <a:close/>
              </a:path>
              <a:path fill="lightenLess" w="21600" h="230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060">
                <a:moveTo>
                  <a:pt x="21600" y="0"/>
                </a:moveTo>
                <a:lnTo>
                  <a:pt x="21600" y="230060"/>
                </a:lnTo>
                <a:lnTo>
                  <a:pt x="20200" y="228660"/>
                </a:lnTo>
                <a:lnTo>
                  <a:pt x="20200" y="1400"/>
                </a:lnTo>
                <a:close/>
              </a:path>
              <a:path fill="darkenLess" w="21600" h="230060">
                <a:moveTo>
                  <a:pt x="21600" y="230060"/>
                </a:moveTo>
                <a:lnTo>
                  <a:pt x="0" y="230060"/>
                </a:lnTo>
                <a:lnTo>
                  <a:pt x="1400" y="228660"/>
                </a:lnTo>
                <a:lnTo>
                  <a:pt x="20200" y="228660"/>
                </a:lnTo>
                <a:close/>
              </a:path>
              <a:path fill="lighten" w="21600" h="230060">
                <a:moveTo>
                  <a:pt x="0" y="230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66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029"/>
          <p:cNvSpPr/>
          <p:nvPr/>
        </p:nvSpPr>
        <p:spPr>
          <a:xfrm>
            <a:off x="5410080" y="2209680"/>
            <a:ext cx="352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13C3-B2B9-487C-B832-33CE30CDD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icture 2" descr="C:\BCT 689\PowerPoint\spss gifs\mlr\matyr3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33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8" name="AutoShape 4">
            <a:hlinkClick r:id="" action="ppaction://hlinkshowjump?jump=nextslide"/>
          </p:cNvPr>
          <p:cNvSpPr/>
          <p:nvPr/>
        </p:nvSpPr>
        <p:spPr>
          <a:xfrm>
            <a:off x="762120" y="30481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483160" y="2209680"/>
            <a:ext cx="32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 point to the variable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CAT TOTAL 1992-PRESENT, MOST RECENT [nmtot1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CFC2-5FD6-4D05-A661-174874714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7" descr="C:\BCT 689\PowerPoint\spss gifs\ancova regr\ancova01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44" name="AutoShape 4">
            <a:hlinkClick r:id="" action="ppaction://hlinkshowjump?jump=nextslide"/>
          </p:cNvPr>
          <p:cNvSpPr/>
          <p:nvPr/>
        </p:nvSpPr>
        <p:spPr>
          <a:xfrm>
            <a:off x="762120" y="3149640"/>
            <a:ext cx="1143000" cy="152280"/>
          </a:xfrm>
          <a:custGeom>
            <a:avLst/>
            <a:gdLst>
              <a:gd name="textAreaLeft" fmla="*/ 9720 w 1143000"/>
              <a:gd name="textAreaRight" fmla="*/ 1133280 w 11430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161796" h="21600">
                <a:moveTo>
                  <a:pt x="0" y="0"/>
                </a:moveTo>
                <a:lnTo>
                  <a:pt x="161796" y="0"/>
                </a:lnTo>
                <a:lnTo>
                  <a:pt x="161796" y="21600"/>
                </a:lnTo>
                <a:lnTo>
                  <a:pt x="0" y="21600"/>
                </a:lnTo>
                <a:close/>
              </a:path>
              <a:path fill="lightenLess" w="161796" h="21600">
                <a:moveTo>
                  <a:pt x="0" y="0"/>
                </a:moveTo>
                <a:lnTo>
                  <a:pt x="161796" y="0"/>
                </a:lnTo>
                <a:lnTo>
                  <a:pt x="160396" y="1400"/>
                </a:lnTo>
                <a:lnTo>
                  <a:pt x="1400" y="1400"/>
                </a:lnTo>
                <a:close/>
              </a:path>
              <a:path fill="darken" w="161796" h="21600">
                <a:moveTo>
                  <a:pt x="161796" y="0"/>
                </a:moveTo>
                <a:lnTo>
                  <a:pt x="161796" y="21600"/>
                </a:lnTo>
                <a:lnTo>
                  <a:pt x="160396" y="20200"/>
                </a:lnTo>
                <a:lnTo>
                  <a:pt x="160396" y="1400"/>
                </a:lnTo>
                <a:close/>
              </a:path>
              <a:path fill="darkenLess" w="161796" h="21600">
                <a:moveTo>
                  <a:pt x="161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396" y="20200"/>
                </a:lnTo>
                <a:close/>
              </a:path>
              <a:path fill="lighten" w="161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72200" y="4525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483160" y="2209680"/>
            <a:ext cx="32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 point to the variable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CAT TOTAL 1992-PRESENT, MOST RECENT [nmtot1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CD4D-D98A-4040-9B16-F5AF45A5B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6" descr="C:\BCT 689\PowerPoint\spss gifs\ancova regr\ancova02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410080" y="25131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mtot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penden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2133720" y="25909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7137-18FE-4197-AB44-6859592A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2" descr="C:\BCT 689\PowerPoint\spss gifs\mlr\matyr6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1752480" y="2514600"/>
            <a:ext cx="228600" cy="2590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590920"/>
              <a:gd name="textAreaBottom" fmla="*/ 2576160 h 2590920"/>
            </a:gdLst>
            <a:ahLst/>
            <a:rect l="textAreaLeft" t="textAreaTop" r="textAreaRight" b="textAreaBottom"/>
            <a:pathLst>
              <a:path w="21600" h="244460">
                <a:moveTo>
                  <a:pt x="0" y="0"/>
                </a:moveTo>
                <a:lnTo>
                  <a:pt x="21600" y="0"/>
                </a:lnTo>
                <a:lnTo>
                  <a:pt x="21600" y="244460"/>
                </a:lnTo>
                <a:lnTo>
                  <a:pt x="0" y="244460"/>
                </a:lnTo>
                <a:close/>
              </a:path>
              <a:path fill="lightenLess" w="21600" h="2444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460">
                <a:moveTo>
                  <a:pt x="21600" y="0"/>
                </a:moveTo>
                <a:lnTo>
                  <a:pt x="21600" y="244460"/>
                </a:lnTo>
                <a:lnTo>
                  <a:pt x="20200" y="243060"/>
                </a:lnTo>
                <a:lnTo>
                  <a:pt x="20200" y="1400"/>
                </a:lnTo>
                <a:close/>
              </a:path>
              <a:path fill="darkenLess" w="21600" h="244460">
                <a:moveTo>
                  <a:pt x="21600" y="244460"/>
                </a:moveTo>
                <a:lnTo>
                  <a:pt x="0" y="244460"/>
                </a:lnTo>
                <a:lnTo>
                  <a:pt x="1400" y="243060"/>
                </a:lnTo>
                <a:lnTo>
                  <a:pt x="20200" y="243060"/>
                </a:lnTo>
                <a:close/>
              </a:path>
              <a:path fill="lighten" w="21600" h="244460">
                <a:moveTo>
                  <a:pt x="0" y="2444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06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486400" y="25131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to the bottom of the list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A824-6740-4F42-A993-E2E53E159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7" descr="C:\BCT 689\PowerPoint\spss gifs\ancova regr\ancova04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3" name="AutoShape 5">
            <a:hlinkClick r:id="" action="ppaction://hlinkshowjump?jump=nextslide"/>
          </p:cNvPr>
          <p:cNvSpPr/>
          <p:nvPr/>
        </p:nvSpPr>
        <p:spPr>
          <a:xfrm>
            <a:off x="762120" y="4597560"/>
            <a:ext cx="533160" cy="190440"/>
          </a:xfrm>
          <a:custGeom>
            <a:avLst/>
            <a:gdLst>
              <a:gd name="textAreaLeft" fmla="*/ 12240 w 533160"/>
              <a:gd name="textAreaRight" fmla="*/ 520920 w 533160"/>
              <a:gd name="textAreaTop" fmla="*/ 12240 h 190440"/>
              <a:gd name="textAreaBottom" fmla="*/ 178200 h 1904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486400" y="2513160"/>
            <a:ext cx="3352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to the bottom of the list, and click the dummy variabl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1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9056-A1D1-40B1-9318-6B33F581A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6" descr="C:\BCT 689\PowerPoint\spss gifs\ancova regr\ancova05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>
            <a:off x="762120" y="4737240"/>
            <a:ext cx="1066680" cy="215640"/>
          </a:xfrm>
          <a:custGeom>
            <a:avLst/>
            <a:gdLst>
              <a:gd name="textAreaLeft" fmla="*/ 13680 w 1066680"/>
              <a:gd name="textAreaRight" fmla="*/ 1053000 w 10666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6704" h="21600">
                <a:moveTo>
                  <a:pt x="0" y="0"/>
                </a:moveTo>
                <a:lnTo>
                  <a:pt x="106704" y="0"/>
                </a:lnTo>
                <a:lnTo>
                  <a:pt x="106704" y="21600"/>
                </a:lnTo>
                <a:lnTo>
                  <a:pt x="0" y="21600"/>
                </a:lnTo>
                <a:close/>
              </a:path>
              <a:path fill="lightenLess" w="106704" h="21600">
                <a:moveTo>
                  <a:pt x="0" y="0"/>
                </a:moveTo>
                <a:lnTo>
                  <a:pt x="106704" y="0"/>
                </a:lnTo>
                <a:lnTo>
                  <a:pt x="105304" y="1400"/>
                </a:lnTo>
                <a:lnTo>
                  <a:pt x="1400" y="1400"/>
                </a:lnTo>
                <a:close/>
              </a:path>
              <a:path fill="darken" w="106704" h="21600">
                <a:moveTo>
                  <a:pt x="106704" y="0"/>
                </a:moveTo>
                <a:lnTo>
                  <a:pt x="106704" y="21600"/>
                </a:lnTo>
                <a:lnTo>
                  <a:pt x="105304" y="20200"/>
                </a:lnTo>
                <a:lnTo>
                  <a:pt x="105304" y="1400"/>
                </a:lnTo>
                <a:close/>
              </a:path>
              <a:path fill="darkenLess" w="106704" h="21600">
                <a:moveTo>
                  <a:pt x="10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304" y="20200"/>
                </a:lnTo>
                <a:close/>
              </a:path>
              <a:path fill="lighten" w="10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486400" y="251316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lect both dummy variables by holding down the 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key and clicking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2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070E-BF8D-4813-9398-517D413A6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6" descr="C:\BCT 689\PowerPoint\spss gifs\ancova regr\ancova06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486400" y="2514600"/>
            <a:ext cx="320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both dummy variables (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1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to th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labele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dependent(s)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AutoShape 5">
            <a:hlinkClick r:id="" action="ppaction://hlinkshowjump?jump=nextslide"/>
          </p:cNvPr>
          <p:cNvSpPr/>
          <p:nvPr/>
        </p:nvSpPr>
        <p:spPr>
          <a:xfrm>
            <a:off x="2133720" y="35812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1C8A-5B8E-46CA-BE34-84A69432C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09480" y="2297160"/>
            <a:ext cx="7848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alysis of Covariance (ANCOVA) is used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ssess the joint significance of predictors on a continuous outcome (GLM approa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generate prediction equations for various levels of a categorical predictor (regression approa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C854-F7DD-45B0-B401-26F75CFFA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Picture 6" descr="C:\BCT 689\PowerPoint\spss gifs\ancova regr\ancova07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336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"/>
          <p:cNvSpPr/>
          <p:nvPr/>
        </p:nvSpPr>
        <p:spPr>
          <a:xfrm>
            <a:off x="5483160" y="2513160"/>
            <a:ext cx="343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run the ANCOVA (regression approach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un the Analysi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2" name="AutoShape 5">
            <a:hlinkClick r:id="" action="ppaction://hlinkshowjump?jump=nextslide"/>
          </p:cNvPr>
          <p:cNvSpPr/>
          <p:nvPr/>
        </p:nvSpPr>
        <p:spPr>
          <a:xfrm>
            <a:off x="4648320" y="246384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CEB0-519D-47B5-BF1E-BC5A340A5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Variables Entered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6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867280" y="2820960"/>
            <a:ext cx="2743200" cy="1557000"/>
          </a:xfrm>
          <a:prstGeom prst="rect">
            <a:avLst/>
          </a:prstGeom>
          <a:solidFill>
            <a:srgbClr val="800080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labels and format of your output may be somewhat differen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AutoShape 6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0" name="Picture 8" descr="C:\BCT 689\PowerPoint\spss gifs\ancova regr\output1.gif"/>
          <p:cNvPicPr/>
          <p:nvPr/>
        </p:nvPicPr>
        <p:blipFill>
          <a:blip r:embed="rId1"/>
          <a:stretch/>
        </p:blipFill>
        <p:spPr>
          <a:xfrm>
            <a:off x="611280" y="2286000"/>
            <a:ext cx="499428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5625-2993-448E-89E2-89FDA4C76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Model Summary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7" descr="C:\BCT 689\PowerPoint\spss gifs\ancova regr\output2.gif"/>
          <p:cNvPicPr/>
          <p:nvPr/>
        </p:nvPicPr>
        <p:blipFill>
          <a:blip r:embed="rId1"/>
          <a:stretch/>
        </p:blipFill>
        <p:spPr>
          <a:xfrm>
            <a:off x="2411280" y="2662200"/>
            <a:ext cx="4321440" cy="15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3813-39D4-46E8-85A2-E70C5A129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NOV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1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Picture 7" descr="C:\BCT 689\PowerPoint\spss gifs\ancova regr\output3.gif"/>
          <p:cNvPicPr/>
          <p:nvPr/>
        </p:nvPicPr>
        <p:blipFill>
          <a:blip r:embed="rId1"/>
          <a:stretch/>
        </p:blipFill>
        <p:spPr>
          <a:xfrm>
            <a:off x="1503360" y="2343240"/>
            <a:ext cx="61372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81AC-7361-46D5-9E8B-A95B9377C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efficien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8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1" name="Picture 7" descr="C:\BCT 689\PowerPoint\spss gifs\ancova regr\output4.gif"/>
          <p:cNvPicPr/>
          <p:nvPr/>
        </p:nvPicPr>
        <p:blipFill>
          <a:blip r:embed="rId1"/>
          <a:stretch/>
        </p:blipFill>
        <p:spPr>
          <a:xfrm>
            <a:off x="1217520" y="2301840"/>
            <a:ext cx="670896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2549-5670-4FA5-9D44-85C370A24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COVA (Regression Approach)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22076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AutoShape 6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1523880" y="41148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54BD-827A-4D92-8F35-F7C24B1FC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COVA (GLM)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22076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AutoShape 6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1523880" y="41148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A958-04B9-4A76-BC3E-9A3F44AE5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COVA (Regression Approach)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22076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AutoShape 8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523880" y="41148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A04B-4CE6-4FFB-B185-1CC0A6D87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39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17440" y="254304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uses the regression approach to ANCOVA to determine if type of undergraduate major and year of matriculation can be used to predict MCAT sco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34EA-70ED-4197-A63D-CBFA3420E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AutoShape 3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27000" y="1981080"/>
            <a:ext cx="753120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81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Dependent variabl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81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nmtot1: MCAT total, 1992-present, most recent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81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ndependent variabl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81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matyr: Year of matriculation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81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ndicator (dummy) variables computed for undergraduate maj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9760" indent="-225360">
              <a:lnSpc>
                <a:spcPct val="100000"/>
              </a:lnSpc>
              <a:spcBef>
                <a:spcPts val="326"/>
              </a:spcBef>
              <a:buClr>
                <a:srgbClr val="eaeaea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dmajor1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9760" indent="-225360">
              <a:lnSpc>
                <a:spcPct val="100000"/>
              </a:lnSpc>
              <a:spcBef>
                <a:spcPts val="326"/>
              </a:spcBef>
              <a:buClr>
                <a:srgbClr val="eaeaea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dmajor2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5842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1FE9-DC00-4EFC-8020-31D9ED4B4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AutoShape 2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212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correctly use the regression approach to ANCOVA requires computing indicator (dummy) variables for different values of categorical variab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AutoShape 5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842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762120" y="343224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ariables can be computed by using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76360" indent="-2383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nsform procedure (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Computing Variabl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utori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76360" indent="-2383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SS syntax (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Using Command Syntax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utori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E26E-A8EA-4993-AC77-D2A685946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AutoShape 2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85800" y="1981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uses the dummy variables shown below to represent the three types of  undergraduate major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842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73120" y="3338640"/>
          <a:ext cx="5842080" cy="2225520"/>
        </p:xfrm>
        <a:graphic>
          <a:graphicData uri="http://schemas.openxmlformats.org/drawingml/2006/table">
            <a:tbl>
              <a:tblPr/>
              <a:tblGrid>
                <a:gridCol w="2705040"/>
                <a:gridCol w="1536840"/>
                <a:gridCol w="16002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Type of Majo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Value of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dmajor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Value of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dmajor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Biology/Chemistr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Other science, health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Other (non-science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0A99-59CA-4A01-981D-BEE77F00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Picture 2" descr="C:\Instructional Technology\BCT689\PowerPoint\analyze1.gif"/>
          <p:cNvPicPr/>
          <p:nvPr/>
        </p:nvPicPr>
        <p:blipFill>
          <a:blip r:embed="rId1"/>
          <a:stretch/>
        </p:blipFill>
        <p:spPr>
          <a:xfrm>
            <a:off x="4572000" y="2970360"/>
            <a:ext cx="3967200" cy="1844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62120" y="27417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4572000" y="29718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961F-446C-4A64-A9B3-412715BA4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Picture 2" descr="C:\Instructional Technology\BCT689\PowerPoint\analyze2.gif"/>
          <p:cNvPicPr/>
          <p:nvPr/>
        </p:nvPicPr>
        <p:blipFill>
          <a:blip r:embed="rId1"/>
          <a:stretch/>
        </p:blipFill>
        <p:spPr>
          <a:xfrm>
            <a:off x="4570560" y="2970360"/>
            <a:ext cx="4059000" cy="1847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gr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AutoShape 6">
            <a:hlinkClick r:id="" action="ppaction://hlinkshowjump?jump=nextslide"/>
          </p:cNvPr>
          <p:cNvSpPr/>
          <p:nvPr/>
        </p:nvSpPr>
        <p:spPr>
          <a:xfrm>
            <a:off x="4800600" y="4267080"/>
            <a:ext cx="1752480" cy="304920"/>
          </a:xfrm>
          <a:custGeom>
            <a:avLst/>
            <a:gdLst>
              <a:gd name="textAreaLeft" fmla="*/ 19440 w 1752480"/>
              <a:gd name="textAreaRight" fmla="*/ 1733040 w 1752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4022" h="21600">
                <a:moveTo>
                  <a:pt x="0" y="0"/>
                </a:moveTo>
                <a:lnTo>
                  <a:pt x="124022" y="0"/>
                </a:lnTo>
                <a:lnTo>
                  <a:pt x="124022" y="21600"/>
                </a:lnTo>
                <a:lnTo>
                  <a:pt x="0" y="21600"/>
                </a:lnTo>
                <a:close/>
              </a:path>
              <a:path fill="lightenLess" w="124022" h="21600">
                <a:moveTo>
                  <a:pt x="0" y="0"/>
                </a:moveTo>
                <a:lnTo>
                  <a:pt x="124022" y="0"/>
                </a:lnTo>
                <a:lnTo>
                  <a:pt x="122622" y="1400"/>
                </a:lnTo>
                <a:lnTo>
                  <a:pt x="1400" y="1400"/>
                </a:lnTo>
                <a:close/>
              </a:path>
              <a:path fill="darken" w="124022" h="21600">
                <a:moveTo>
                  <a:pt x="124022" y="0"/>
                </a:moveTo>
                <a:lnTo>
                  <a:pt x="124022" y="21600"/>
                </a:lnTo>
                <a:lnTo>
                  <a:pt x="122622" y="20200"/>
                </a:lnTo>
                <a:lnTo>
                  <a:pt x="122622" y="1400"/>
                </a:lnTo>
                <a:close/>
              </a:path>
              <a:path fill="darkenLess" w="124022" h="21600">
                <a:moveTo>
                  <a:pt x="124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22" y="20200"/>
                </a:lnTo>
                <a:close/>
              </a:path>
              <a:path fill="lighten" w="124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FBE8-C8F7-4A9C-BCA8-4342B1A2B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Picture 2" descr="C:\BCT 689\PowerPoint\spss gifs\mlr\regress2.gif"/>
          <p:cNvPicPr/>
          <p:nvPr/>
        </p:nvPicPr>
        <p:blipFill>
          <a:blip r:embed="rId1"/>
          <a:srcRect l="3648" t="0" r="0" b="3125"/>
          <a:stretch/>
        </p:blipFill>
        <p:spPr>
          <a:xfrm>
            <a:off x="4570560" y="2970360"/>
            <a:ext cx="4108320" cy="1982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gr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6212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nea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AutoShape 7">
            <a:hlinkClick r:id="" action="ppaction://hlinkshowjump?jump=nextslide"/>
          </p:cNvPr>
          <p:cNvSpPr/>
          <p:nvPr/>
        </p:nvSpPr>
        <p:spPr>
          <a:xfrm>
            <a:off x="6477120" y="4343400"/>
            <a:ext cx="1447560" cy="228600"/>
          </a:xfrm>
          <a:custGeom>
            <a:avLst/>
            <a:gdLst>
              <a:gd name="textAreaLeft" fmla="*/ 14760 w 1447560"/>
              <a:gd name="textAreaRight" fmla="*/ 1432800 w 1447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6596" h="21600">
                <a:moveTo>
                  <a:pt x="0" y="0"/>
                </a:moveTo>
                <a:lnTo>
                  <a:pt x="136596" y="0"/>
                </a:lnTo>
                <a:lnTo>
                  <a:pt x="136596" y="21600"/>
                </a:lnTo>
                <a:lnTo>
                  <a:pt x="0" y="21600"/>
                </a:lnTo>
                <a:close/>
              </a:path>
              <a:path fill="lightenLess" w="136596" h="21600">
                <a:moveTo>
                  <a:pt x="0" y="0"/>
                </a:moveTo>
                <a:lnTo>
                  <a:pt x="136596" y="0"/>
                </a:lnTo>
                <a:lnTo>
                  <a:pt x="135196" y="1400"/>
                </a:lnTo>
                <a:lnTo>
                  <a:pt x="1400" y="1400"/>
                </a:lnTo>
                <a:close/>
              </a:path>
              <a:path fill="darken" w="136596" h="21600">
                <a:moveTo>
                  <a:pt x="136596" y="0"/>
                </a:moveTo>
                <a:lnTo>
                  <a:pt x="136596" y="21600"/>
                </a:lnTo>
                <a:lnTo>
                  <a:pt x="135196" y="20200"/>
                </a:lnTo>
                <a:lnTo>
                  <a:pt x="135196" y="1400"/>
                </a:lnTo>
                <a:close/>
              </a:path>
              <a:path fill="darkenLess" w="136596" h="21600">
                <a:moveTo>
                  <a:pt x="136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96" y="20200"/>
                </a:lnTo>
                <a:close/>
              </a:path>
              <a:path fill="lighten" w="136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00:33:49Z</dcterms:created>
  <dc:creator>Julia Hartman</dc:creator>
  <dc:description/>
  <cp:keywords>SPSS ANCOVA Analysis of Covariance</cp:keywords>
  <dc:language>en-US</dc:language>
  <cp:lastModifiedBy>Windows User</cp:lastModifiedBy>
  <dcterms:modified xsi:type="dcterms:W3CDTF">2011-12-05T18:34:45Z</dcterms:modified>
  <cp:revision>160</cp:revision>
  <dc:subject>Regression Approach to ANCOVA</dc:subject>
  <dc:title>SPSS ANCOVA (Regression) Tutorial</dc:title>
</cp:coreProperties>
</file>